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4C56-8650-4C98-9A70-386D95085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CDE3-E223-4A0A-BD83-C3820422B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FD9B-5FDC-4A21-AAFD-6EF4FFA89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E3E8-C80F-453C-B81E-174BC31A4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02A3-ACA7-415A-A956-8FF758589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CA8F-89DE-4112-8AA0-62131685B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598E-A707-4AD6-A35E-86B49DFCC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D7FE-3A2F-465D-A76D-18427E348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2673-3767-4DB4-9B4D-BF8DCA936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B1B6-09D6-42C3-8200-3ADF08858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8F16-8755-4421-8676-DB9581927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F563-EE0C-4064-9F80-92C77F721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32EF-C0B4-4510-BEEA-D5BCE59E0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47DC-9EE3-4C4B-876D-30EB1EA1B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8E85-365B-48EB-B040-D9E9FFE5A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22E6-1A65-451B-9B8E-73750928F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BE1-174B-41E8-93D7-55A749CE611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ermining Payroll Tax Withho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d by Law to withhold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yroll taxes represent a liability until p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ederal Income Tax – required in all 50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E75D-3BD3-4590-BAF9-2A1DA3FF8DB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WITHHOLDING ALLOWANC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C:\Documents and Settings\mcm08@fuse.net\My Documents\2005 Business Projects\Slides for Century 21 Accounting\Blue\ch12\C21_blue_1207.jpg"/>
          <p:cNvPicPr/>
          <p:nvPr/>
        </p:nvPicPr>
        <p:blipFill>
          <a:blip r:embed="rId1"/>
          <a:stretch/>
        </p:blipFill>
        <p:spPr>
          <a:xfrm>
            <a:off x="1638360" y="1447920"/>
            <a:ext cx="5867280" cy="306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137160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15320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7153200" y="26478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365720" y="35622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04920" y="4565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name an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04920" y="4916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social security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304920" y="526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appropriate marital statu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304920" y="5618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number of withholding allowances clai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04920" y="596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signs and dates th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E460-8170-4C7E-B5C0-D133125813B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INCOME TAX WITHHOLDING – MARRIED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304920" y="1447920"/>
            <a:ext cx="8533800" cy="3200040"/>
            <a:chOff x="304920" y="1447920"/>
            <a:chExt cx="8533800" cy="3200040"/>
          </a:xfrm>
        </p:grpSpPr>
        <p:pic>
          <p:nvPicPr>
            <p:cNvPr id="117" name="Picture 14" descr="C:\Documents and Settings\mcm08@fuse.net\My Documents\2005 Business Projects\Slides for Century 21 Accounting\Blue\ch12\C21_blue_1209.jpg"/>
            <p:cNvPicPr/>
            <p:nvPr/>
          </p:nvPicPr>
          <p:blipFill>
            <a:blip r:embed="rId1"/>
            <a:srcRect l="891" t="0" r="0" b="81211"/>
            <a:stretch/>
          </p:blipFill>
          <p:spPr>
            <a:xfrm>
              <a:off x="304920" y="1447920"/>
              <a:ext cx="85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5" descr="C:\Documents and Settings\mcm08@fuse.net\My Documents\2005 Business Projects\Slides for Century 21 Accounting\Blue\ch12\C21_blue_1209.jpg"/>
            <p:cNvPicPr/>
            <p:nvPr/>
          </p:nvPicPr>
          <p:blipFill>
            <a:blip r:embed="rId2"/>
            <a:srcRect l="891" t="47382" r="0" b="40751"/>
            <a:stretch/>
          </p:blipFill>
          <p:spPr>
            <a:xfrm>
              <a:off x="304920" y="3047040"/>
              <a:ext cx="853380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0" descr="C:\Documents and Settings\mcm08@fuse.net\My Documents\2005 Business Projects\Slides for Century 21 Accounting\Blue\ch12\C21_blue_1209.jpg"/>
            <p:cNvPicPr/>
            <p:nvPr/>
          </p:nvPicPr>
          <p:blipFill>
            <a:blip r:embed="rId3"/>
            <a:srcRect l="891" t="93078" r="0" b="0"/>
            <a:stretch/>
          </p:blipFill>
          <p:spPr>
            <a:xfrm>
              <a:off x="304920" y="4105440"/>
              <a:ext cx="8533800" cy="54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Rectangle 6"/>
          <p:cNvSpPr/>
          <p:nvPr/>
        </p:nvSpPr>
        <p:spPr>
          <a:xfrm>
            <a:off x="160200" y="14940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22"/>
          <p:cNvGrpSpPr/>
          <p:nvPr/>
        </p:nvGrpSpPr>
        <p:grpSpPr>
          <a:xfrm>
            <a:off x="352440" y="3632040"/>
            <a:ext cx="447840" cy="1315800"/>
            <a:chOff x="352440" y="3632040"/>
            <a:chExt cx="447840" cy="1315800"/>
          </a:xfrm>
        </p:grpSpPr>
        <p:sp>
          <p:nvSpPr>
            <p:cNvPr id="122" name="Freeform 21"/>
            <p:cNvSpPr/>
            <p:nvPr/>
          </p:nvSpPr>
          <p:spPr>
            <a:xfrm>
              <a:off x="57168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35244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23"/>
          <p:cNvGrpSpPr/>
          <p:nvPr/>
        </p:nvGrpSpPr>
        <p:grpSpPr>
          <a:xfrm>
            <a:off x="4181400" y="3632040"/>
            <a:ext cx="447840" cy="1315800"/>
            <a:chOff x="4181400" y="3632040"/>
            <a:chExt cx="447840" cy="1315800"/>
          </a:xfrm>
        </p:grpSpPr>
        <p:sp>
          <p:nvSpPr>
            <p:cNvPr id="125" name="Freeform 24"/>
            <p:cNvSpPr/>
            <p:nvPr/>
          </p:nvSpPr>
          <p:spPr>
            <a:xfrm>
              <a:off x="440064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5"/>
            <p:cNvSpPr/>
            <p:nvPr/>
          </p:nvSpPr>
          <p:spPr>
            <a:xfrm>
              <a:off x="418140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304920" y="5121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ppropriate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304920" y="5486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employee’s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304920" y="5851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wages and number of allowance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curity and Medicare Tax (FICA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Insurance Contribution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or old-age, survivors, and disability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% of total earnings up to 118,500 (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or hospital Insurance for eld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5% of total earning (no tax bas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F904-22A5-4588-98B8-FB8B279B494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9919-DC61-40E4-9ADD-396BB228539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ing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bstromes</cp:lastModifiedBy>
  <dcterms:modified xsi:type="dcterms:W3CDTF">2014-12-22T17:07:26Z</dcterms:modified>
  <cp:revision>21</cp:revision>
  <dc:subject/>
  <dc:title>Lesson 12-1</dc:title>
</cp:coreProperties>
</file>